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A3E-DD3C-4839-9D0E-6A66B270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E07-BDCE-4928-800A-44328923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644-8C8E-49A1-B967-1EE86077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86E-295A-4EAB-A47E-DC37492B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301-A65C-487A-B920-28E89F60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931-BB51-493A-A8C8-94F3714C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CF4-7187-4DE6-9495-3564C7B9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47D-2598-47FC-A566-CE0FC6F4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21B-47BF-4F59-AC16-7ED526C0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A3D-5BCE-4EC6-BA7B-37B07D6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CE6-3717-455F-8EFF-F009314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3CA-93E5-4701-9AEC-1C3EA61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1BF0-A023-47F7-A18A-11CBAF236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1480" y="914400"/>
            <a:ext cx="6032520" cy="792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676520"/>
            <a:ext cx="4419720" cy="62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Dear San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I am 6 years old.  I like to play in the sn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Please bring me a new sled.  I also want a new pup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I will leave you some cookies and a carrot for Rudolph the Red nosed Reinde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KidTYPEPaint"/>
              </a:rPr>
              <a:t>Su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04:03Z</dcterms:created>
  <dc:creator>Patrick Mooney</dc:creator>
  <dc:description/>
  <dc:language>en-US</dc:language>
  <cp:lastModifiedBy>Patrick Mooney</cp:lastModifiedBy>
  <dcterms:modified xsi:type="dcterms:W3CDTF">2008-11-24T19:14:08Z</dcterms:modified>
  <cp:revision>2</cp:revision>
  <dc:subject/>
  <dc:title>Slide 1</dc:title>
</cp:coreProperties>
</file>